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498-49D9-4A2A-A929-D0B1F2B9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64D-D701-4EBD-95F5-CC4B9AD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AEE-6AB1-40B4-8808-06569318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05B-954D-462F-965F-BE9DDF27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FD5-B15C-4717-AA93-590B51EB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95D-BA06-44F7-9FFB-4B4B7C6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0CB-5209-4753-8254-6508D2A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5FE1-3E22-4713-AF16-BAF22601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F3C-75A0-4C82-B5AA-3B3E470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E3C-4212-48AA-82AC-92CA09DA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3A98-5E43-46ED-858D-CC6F194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743-95A3-4CC2-A7AD-45E2E11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BD6-24F6-40FF-A56D-9CFB73D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C870-883C-4A37-BB04-EE17210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BFF-E461-46FB-B34F-814E0C9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30A1-075F-419C-BB90-30F7F777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5F8E-5CB2-4694-9083-4ECAA2F1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37D-F3D9-4A51-883B-EA58E1B6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DE2-834B-4F17-B1FE-1083811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A66-F9B0-4EC0-B7A9-90BA9424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246-5DE6-4D7B-8A04-A304D26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AEE-8649-48FF-9940-5EADDCF1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814-7A4E-4D23-969A-07AB2A0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A21-AE19-4A89-B523-D9D093B1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246B-2B7B-4781-BEA4-DC92986F66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7608-013B-4C39-83F3-7596009C0B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-24804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Verdana"/>
              </a:rPr>
              <a:t>Me llamo ______ Clase 802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Verdana"/>
              </a:rPr>
              <a:t>la fecha es el 5 de abril del 20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826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Propósito # 65:</a:t>
            </a:r>
            <a:r>
              <a:rPr b="0" lang="es-ES_tradnl" sz="2800" spc="-1" strike="noStrike">
                <a:solidFill>
                  <a:srgbClr val="ff0066"/>
                </a:solidFill>
                <a:latin typeface="Verdana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uiste a un concierto?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800080"/>
                </a:solidFill>
                <a:latin typeface="Verdana"/>
              </a:rPr>
              <a:t>L.O.- to learn movies and museum 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completa con el pretéri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_______ a una fiesta.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s amigos _______ también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urante la fiesta nosotros ________ música. (escuch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________ unos picadillos.(tom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_________ tú un refresco?(tom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uch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Ejercicio 1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p. 268 (1-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12503" t="5003" r="13410" b="18820"/>
          <a:stretch/>
        </p:blipFill>
        <p:spPr>
          <a:xfrm>
            <a:off x="0" y="0"/>
            <a:ext cx="9032760" cy="5805360"/>
          </a:xfrm>
          <a:prstGeom prst="rect">
            <a:avLst/>
          </a:prstGeom>
          <a:ln w="0">
            <a:noFill/>
          </a:ln>
        </p:spPr>
      </p:pic>
      <p:sp>
        <p:nvSpPr>
          <p:cNvPr id="172" name="Line 5"/>
          <p:cNvSpPr/>
          <p:nvPr/>
        </p:nvSpPr>
        <p:spPr>
          <a:xfrm flipV="1">
            <a:off x="4114800" y="1676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523880" y="1066680"/>
            <a:ext cx="3581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ovie theater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3520" y="21337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Box office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410080" y="121932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ovie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12500" t="5003" r="12500" b="12140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905120" y="1066680"/>
            <a:ext cx="3047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useum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867280" y="175248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painting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705720" y="4038480"/>
            <a:ext cx="2438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bronz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statue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rcRect l="12500" t="5003" r="12500" b="13728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rcRect l="10682" t="2820" r="15568" b="13184"/>
          <a:stretch/>
        </p:blipFill>
        <p:spPr>
          <a:xfrm>
            <a:off x="76320" y="76320"/>
            <a:ext cx="8991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12500" t="7001" r="12500" b="10638"/>
          <a:stretch/>
        </p:blipFill>
        <p:spPr>
          <a:xfrm>
            <a:off x="0" y="15228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r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ocabulario en Viv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hapter 8: Vocabulario en Viv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ctividad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7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ctividad 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7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57200" y="3763800"/>
            <a:ext cx="82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Tarea # 6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1332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Teacher Oral Parts, Ej. 1 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p. 26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95280" y="1868400"/>
            <a:ext cx="7925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resa salió con Fernan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os músicos tocar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olvieron a casa a pi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os cantantes cantar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odos aplaudier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os jóvenes salieron del concier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4:22:14Z</dcterms:created>
  <dc:creator>Helen Zumaeta</dc:creator>
  <dc:description/>
  <dc:language>en-US</dc:language>
  <cp:lastModifiedBy>Helen Zumaeta</cp:lastModifiedBy>
  <dcterms:modified xsi:type="dcterms:W3CDTF">2016-04-04T20:10:25Z</dcterms:modified>
  <cp:revision>11</cp:revision>
  <dc:subject/>
  <dc:title>Me llamo ______ Clase 8im la fecha es el1 5 de noviembre del 2012</dc:title>
</cp:coreProperties>
</file>